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32A-724D-4915-AF75-03E3627F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020-E95F-45C2-ADBA-58410958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FD2-F9F1-444D-8897-A4C2928C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564-5BAF-438F-920A-97726BEB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44C4-0482-42D1-8814-9DB1C281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DAFE-739C-457B-B05D-1E041508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FB9-3077-4E44-9B9A-3E71D23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AECB-A647-4256-8678-6F0E37E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C5D9-8C74-4AEC-BEB1-093E5BAD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4E00-3452-4A6D-87FF-7BF6C6DE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DE76-CBEB-44E8-8EBA-140E029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8FA-5007-473C-A8EE-B348196F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DFA5-2ED6-4D0A-93EA-863AA4A5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2C3C-E186-413D-BEA8-9ECAB7CC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759E-989A-4E1E-878F-FAEDBA69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C5DB-76F3-4BED-A504-9D6C8CF6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05E2-FAB6-4A99-B5C4-90086677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A695-F42D-4D3D-ACE7-F9895EBA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F624-C634-40C2-8674-975CC312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DED5-C0F9-425A-BD99-D64B57C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8EF3-B4B7-4379-8FB0-DF076287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D4E6-1798-4F5C-B8E8-AE74D8D9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33D-D93F-4E4A-BD88-5005847D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F960-2392-4A73-93FC-7B9A402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4C71-D0CF-4B34-A6BC-758342F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FCB1-B168-403B-87C1-6EE9C481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3C57-1B4F-47A4-A275-1BB2D1C9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FB94-F636-467A-871B-58FA9017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A4FC-F358-4A7D-835B-65901F82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89AC-6D9D-4A47-ADAA-2ACF8A3F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64410-CF44-4631-BC0E-5C4536D2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393B-BAC3-4AD4-B668-8ACFDEC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00E4F-2AE1-470F-A5DA-C9080A65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A55-692F-4964-A128-06F8609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4B05-8DD6-470C-B6B0-B1B6D675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6B964-8803-49FE-817B-73825349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1B7A-18AF-4E96-9F38-F4163ECB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E47E-A6CB-4201-AEE7-3ADBFBE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7281-B1F7-4798-B255-2CB2C057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6263-1127-4A4C-B282-0814FBC2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5C74-A538-4D25-9F9A-79291DED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A581-5E3E-474B-9596-E2E2218C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FC90-6387-4F21-9D20-09E353EF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F43E6-CEBA-479D-9572-33294D22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76D-99B4-4913-89A0-CE9A6B35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D299-EBE8-48BD-92DA-BB0A58CC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5DC4A-F586-4360-9B18-C52C6EFA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3E59B-FB94-4055-AC6B-2BE15042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A22BA-28F3-461E-8DAB-0E47EA7B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1EABB-8484-4AA1-B70F-0A70A118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0CEA-DBFD-40C0-8F0E-B776CAA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88B2-4677-40BD-85DF-124A43BB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80741-9163-46B7-A137-529E10A8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7236B-681A-4C6A-B989-762C267E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00106-5098-44DB-8E44-0A50694A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A04-4D48-4B89-98F2-7034966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09810-CA32-49A9-8AB7-2DFFB460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B6D-64E7-41EB-AA25-4E9BA171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11D-A838-4369-AFE2-6E7B1287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A24-4788-48EA-BE97-5BD2C4D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FC13-5083-422F-8D42-7103D7A242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0E55-BB34-4619-AE29-D412749735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D557-9F9E-4973-8D03-741A4946AA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EAF-9252-412A-8FE1-23F881FC7F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6013-A4E1-4F78-B880-F737D55789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a55"/>
                </a:solidFill>
                <a:latin typeface="Perpetua"/>
              </a:rPr>
              <a:t>By Robert Fro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e Road Not Taken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Quick Write: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 a list of all the decisions you have to make on a daily basis, no matter how minor. Then list what sorts of things influence you when you make those decision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hare your list with the person next to you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the meter and rhyme scheme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heard a fly buzz when I died;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illness round my form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as like the stillness in the air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tween the heaves of storm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eter is iam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 iambic meter is a poetic foot made up of an unstressed syllable followed by a stressed sylla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hear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fl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buzz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Perpetua"/>
              </a:rPr>
              <a:t>die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;  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ss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roun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m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Perpetua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b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as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lik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h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ss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Perpetua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c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twee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h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heav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Perpetua"/>
              </a:rPr>
              <a:t>stor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The Road Not Taken </a:t>
            </a:r>
            <a:br>
              <a:rPr sz="3600"/>
            </a:br>
            <a:r>
              <a:rPr b="0" lang="en-US" sz="2800" spc="-1" strike="noStrike">
                <a:solidFill>
                  <a:srgbClr val="676a55"/>
                </a:solidFill>
                <a:latin typeface="Franklin Gothic Book"/>
              </a:rPr>
              <a:t>By Robert Frost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wo roads diverged in a yellow wood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sorry I could not travel both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be one traveler, long I stood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looked down one as far as I could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o where it bent in the undergrowth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hen took the other, as just as fair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having perhaps the better claim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cause it was grassy and wanted wear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hough as for that the passing the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Had worn them really about the same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both that morning equally lay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n leaves no step had trodden black.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Oh, I kept the first for another day!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Yet knowing how way leads on to way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 doubted if I should ever come back.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 shall be telling this with a sigh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omewhere ages and ages hence: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wo roads diverged in a wood, and I--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 took the one less traveled by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that has made all the difference.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Second read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the literal meaning of the po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 the rhyme sche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ad the poem to yourself and underline three words which connote (show) emotion and identify any symbolism in the poem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the metaphorical meaning of the poem? What connection can you make between the qualities of a lyrical poem and the theme of the po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2:39:27Z</dcterms:created>
  <dc:creator>116393</dc:creator>
  <dc:description/>
  <dc:language>en-US</dc:language>
  <cp:lastModifiedBy>Siracusa Brittani</cp:lastModifiedBy>
  <dcterms:modified xsi:type="dcterms:W3CDTF">2014-04-16T14:03:41Z</dcterms:modified>
  <cp:revision>4</cp:revision>
  <dc:subject/>
  <dc:title>The Road Not Taken</dc:title>
</cp:coreProperties>
</file>